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0A4-3C0D-4336-8A80-CB06045B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3BB-4DDA-443F-8DD4-4B8547A4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4CA-9C5B-4113-A41D-DA1A7832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7CA-7531-41C3-96E2-884DDEAA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C21-4CF1-4398-A8DA-1ED2649B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9DF-C2CF-4114-B663-08FD204A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6AEC-54C8-4E74-A816-4D03C6C6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225-56B7-49E1-BF1D-CF28EC21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60C-4D4C-4F2C-946F-20E7D18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AE4-7FCB-4A9B-89B8-D7EE15E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F51-9884-48DE-83D5-EBB6ED2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7F6-334E-4197-AE6F-FC46842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5777-9D1F-462C-8444-4F1FCB2C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Congruency</a:t>
            </a:r>
            <a:br>
              <a:rPr sz="4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Daquann Ch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esah Martin, Grav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ngr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hapes are congruent if they are the same (shape and size)- in other words, if the lengths of the sides and the angles are the sam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34340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What does it mean for polygons to b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Polygon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re congruent when they have the same number of sides, and all corresponding sides and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ior angl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re congruent. The polygons will have the same shape and size, but one may be a rotated, or be the mirror image of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ve shortcuts for determining if triangles are congru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Side-Side-If the three side of one triangle are congruent to the three sides of another triangle then the two triangles are congru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-Angle-Side- If two sides and the included angle of one triangle are congruent to two sides and the included angle of another triangle , then the two triangles are congru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-Side-Angle- If two angles and the included side of an triangle are congruent to two angles and the included side of another triangle, then the two triangles are congruent.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-Angle-Side- If two angles and a non-included side of one triangle are congruent to the angle and the corresponding non-included side of another triangle, the triangles are congru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-Side-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three side of one triangle are congruent to the three sides of another triangle then the two triangles are congru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670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6:21:29Z</dcterms:created>
  <dc:creator>117815</dc:creator>
  <dc:description/>
  <dc:language>en-US</dc:language>
  <cp:lastModifiedBy>117815</cp:lastModifiedBy>
  <dcterms:modified xsi:type="dcterms:W3CDTF">2008-05-02T16:17:09Z</dcterms:modified>
  <cp:revision>8</cp:revision>
  <dc:subject/>
  <dc:title>Congruency </dc:title>
</cp:coreProperties>
</file>